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8.png" ContentType="image/png"/>
  <Override PartName="/ppt/media/image13.png" ContentType="image/png"/>
  <Override PartName="/ppt/media/image12.wmf" ContentType="image/x-wmf"/>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87526-5270-45E1-A62C-A41599A57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11FB2-F23C-484E-B213-935E3B35E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CC909-4EDB-486F-BEE6-F7AD9A5CC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99E73-1E9B-4FD2-B863-BB023D383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B38B52-1089-46FC-8804-3EF78E50F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56B49-DE5F-4876-B995-79139F4B8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468E8-E543-4145-83C2-B8EA99694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CA36E-550B-4610-9049-D99D0893D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652D1-37BC-4405-AD6D-C20B88C03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EAC14-E312-478F-B4A0-51CBF66B6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08E7F-92C4-4BE4-9A6F-FE4C46FDD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D474-6EB6-48AB-BC89-E8BC1A407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C985B-9A4E-41E7-8CA7-D621C4235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763D8-2881-47EB-93E9-AF6957A25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01EBF-1E08-47BE-8BDC-4CF7CB48E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70E45-EA05-4A02-9494-FB62C75D8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D0FB6-8A65-41D4-A008-3B574FC7A9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C92A73-BFCD-4476-A635-CA40057D9A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AD5BE-9255-4143-8514-AE895D811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FC59B-37C2-418F-995C-5F731B3C23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BA5C8-F5C7-4748-A6E1-9D32802E5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833E9D-C748-415E-A13B-C91A55201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9142-8832-4132-9A1E-E3186F38A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EC340-96B2-4420-B4B6-F553B5BD0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16B42-34C6-4437-86C0-389D825E0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70776-BBF6-44E3-A7CA-EBD925FDB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C60B3-35E9-41BE-AE41-715EE08A6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D7DBC-C30A-40A1-B7A9-4B569AED7C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58CB3D-4349-4786-B6F8-FE7F717BD3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2C29C-77DC-4FD4-8DBB-55C33701B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FB4F14-27AC-438E-A75B-2993C6F49F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3DDB7-C43A-4B0D-B5D9-9FD99F4A5E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8BCA77-4422-4102-988D-A64EDD0D1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EC4E-FD66-4E87-BDE3-44D9744B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8251AD-7044-4264-B322-7A4788A87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6D216-3EF8-4210-8211-AB8D84D546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304542-9B48-4252-9499-CB337942D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26131-E1D3-40E4-88B1-B23329D681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1798D-4556-4514-A654-025008F32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FCE8B3-E600-4E0F-81B8-D59F44D66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32115-80BC-4764-B75E-220F7514B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DDF9A-41E3-4E92-B500-842FB2A33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CD21D1-38BD-4279-9076-9B68AC10EE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EF51C6-84D0-4CAA-A0B4-6EC18C68A6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4FCC5-FF9B-4053-ABD8-8329F7BA7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A0681-E3E3-44B4-B94B-CC3CF40138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704F18-5BA2-4FFB-B1A5-CD139FC357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1F0622-B8D7-4945-A0DD-8DE4086B58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53BB9A-955E-4FB3-9456-CAC7C0351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C1762E-A25B-44B4-9409-0F4F92DE8E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1BEA3-1179-4867-85F6-1E541CFDC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375848-71A1-459A-BCD9-F2DA1280D2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DF54CA-AE7F-442C-8BB4-05598B16E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C8CC8-E85D-4457-A0EC-1922FCE04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59176B-010B-46D4-AA91-B2A99F3A00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66395-EFE8-4864-99C1-C2EB0C28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BA554F-34AE-425E-972F-A15087FB13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816D8E-A313-4C97-B7CD-D13EF3DC24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6DAE6A-FB88-401B-A757-9B5535070C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12B7F-8422-4032-AF5A-6E412FFB65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25970-7383-41C6-82C5-7D204B583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43BE15-F4B6-4CFC-A2FE-A6C6054CD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33F485-BF60-4278-BA04-CB897D0B26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BD43C1-31D3-47AC-96BD-5AC8C475D0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EFD2E-56F0-43FF-90E4-B7A673505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949486-FB4E-46AA-89EE-1C11345CB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57D5-0AF2-4255-9ACD-A09F53E3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45E1B-B9F3-49A3-B699-391B6ECCE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FCD202-267D-467C-AFA6-7B3E22BF13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F12687-0F62-494B-88FA-3F6D6A4485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286BB1-380D-4B4C-B5DC-B8175FCED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4689DA-B1E8-4CF6-9E5A-29CE2E27C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F248F-AA57-41DF-A101-40A0DA563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22194-22F8-44F8-A76A-6E1B7DA34D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9E0B99-2815-462E-A81C-327A09C7DF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5B937-0B45-41A5-B943-84B6EB213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53FA9-9284-413A-9234-E5E1F8FD1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9A444-978C-499A-B533-75C3166E6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66E72-FB5A-4FAF-A5CB-5155278CBF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E84416-2C2F-4B70-B427-C12C3789D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2528CC-68B9-4D64-9662-E4155273F6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D71CCE-B994-456C-A5D0-B9FDA40293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6F4EDD-9142-4314-81BF-4E71DCECEE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FDFD94-A202-4B4A-A245-3085AF6F3E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537F7-1556-4D10-A7CF-DDEED431C4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39DE77-3A9A-472B-A1BB-6E2A4D64EF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289D4-3A48-44FD-84CE-94BC9A31F2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D3A6E-0ADD-48AA-9320-3A6175F4D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3DA4A-E68B-4C1D-A874-A68C7E542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B7E8B-4991-471D-8B95-F4F091173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0850F0-959D-448A-8C37-A446ABBD0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8CFAC-4C0E-4866-B24D-C25181C52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7A8E8-1E7F-4B4B-8D2C-D7DDD8CB0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15C2DA-E9D9-416F-A1FC-2DE596EF92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0D0B37-28F1-4712-BF50-289A72FC2E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AFB2D4-CA21-4674-862E-E109C0B1932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2A74-7D02-4999-A2E8-5CF125FA144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5BE5-C3D7-4C24-A3C5-0B97C750EB4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E728-2E55-49D5-B2D4-FD575064D1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CA2B-80CE-445A-A27F-E230822573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E84A-348A-441C-93EE-FC2EEDCEA7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10BF-A83E-40E8-9A7C-6069DC22606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9CCF-B011-4642-B8C8-AD57388C59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7989-4EEB-4BB1-95FA-AD59BBCBC76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hyperlink" Target="http://www.youtube.com/watch?v=W-mmGIIE3xk"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1" name="PlaceHolder 2"/>
          <p:cNvSpPr>
            <a:spLocks noGrp="1"/>
          </p:cNvSpPr>
          <p:nvPr>
            <p:ph type="subTitle"/>
          </p:nvPr>
        </p:nvSpPr>
        <p:spPr>
          <a:xfrm>
            <a:off x="1219320" y="4572000"/>
            <a:ext cx="6400800" cy="144792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pic>
        <p:nvPicPr>
          <p:cNvPr id="372" name="Picture 2" descr="C:\Users\The Berndt Family\AppData\Local\Microsoft\Windows\Temporary Internet Files\Content.IE5\YZX2CFPX\MPj04333830000[1].jpg"/>
          <p:cNvPicPr/>
          <p:nvPr/>
        </p:nvPicPr>
        <p:blipFill>
          <a:blip r:embed="rId1"/>
          <a:stretch/>
        </p:blipFill>
        <p:spPr>
          <a:xfrm>
            <a:off x="-520560" y="0"/>
            <a:ext cx="9969480" cy="6858000"/>
          </a:xfrm>
          <a:prstGeom prst="rect">
            <a:avLst/>
          </a:prstGeom>
          <a:ln w="0">
            <a:noFill/>
          </a:ln>
        </p:spPr>
      </p:pic>
      <p:pic>
        <p:nvPicPr>
          <p:cNvPr id="373" name="Rectangle 5" descr=""/>
          <p:cNvPicPr/>
          <p:nvPr/>
        </p:nvPicPr>
        <p:blipFill>
          <a:blip r:embed="rId2"/>
          <a:stretch/>
        </p:blipFill>
        <p:spPr>
          <a:xfrm>
            <a:off x="1182600" y="4857840"/>
            <a:ext cx="6961320" cy="109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3" descr=""/>
          <p:cNvPicPr/>
          <p:nvPr/>
        </p:nvPicPr>
        <p:blipFill>
          <a:blip r:embed="rId1"/>
          <a:stretch/>
        </p:blipFill>
        <p:spPr>
          <a:xfrm>
            <a:off x="682560" y="530280"/>
            <a:ext cx="7785000" cy="1231920"/>
          </a:xfrm>
          <a:prstGeom prst="rect">
            <a:avLst/>
          </a:prstGeom>
          <a:ln w="0">
            <a:noFill/>
          </a:ln>
        </p:spPr>
      </p:pic>
      <p:sp>
        <p:nvSpPr>
          <p:cNvPr id="396" name="PlaceHolder 1"/>
          <p:cNvSpPr>
            <a:spLocks noGrp="1"/>
          </p:cNvSpPr>
          <p:nvPr>
            <p:ph type="subTitle"/>
          </p:nvPr>
        </p:nvSpPr>
        <p:spPr>
          <a:xfrm>
            <a:off x="685800" y="1828440"/>
            <a:ext cx="7772400" cy="3809880"/>
          </a:xfrm>
          <a:prstGeom prst="rect">
            <a:avLst/>
          </a:prstGeom>
          <a:noFill/>
          <a:ln w="0">
            <a:noFill/>
          </a:ln>
        </p:spPr>
        <p:txBody>
          <a:bodyPr lIns="45720" rIns="4572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Refugee: </a:t>
            </a:r>
            <a:r>
              <a:rPr b="0" lang="en-US" sz="2500" spc="-1" strike="noStrike">
                <a:solidFill>
                  <a:srgbClr val="000000"/>
                </a:solidFill>
                <a:latin typeface="Lucida Sans Unicode"/>
              </a:rPr>
              <a:t>A person who is residing outside the country of his or her origin due to fear of persecution for reasons of race, religion, nationality, membership in a particular social group, or political opinion.</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Internally Displaced Person (IDP): </a:t>
            </a:r>
            <a:r>
              <a:rPr b="0" lang="en-US" sz="2500" spc="-1" strike="noStrike">
                <a:solidFill>
                  <a:srgbClr val="000000"/>
                </a:solidFill>
                <a:latin typeface="Lucida Sans Unicode"/>
              </a:rPr>
              <a:t>A person who is forced to leave his or her home region because of unfavorable conditions (political, social, environmental, etc.) but does not cross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ny boundaries. </a:t>
            </a:r>
            <a:endParaRPr b="0" lang="en-US" sz="25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ople move for a variety of reasons. They consider the advantages and disadvantages of staying versus moving, as well as factors such as distance, travel costs, travel time, modes of transportation, terrain, and cultural barriers.  These different reasons to migrate are split into two categories:  Push or Pul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8"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3" descr=""/>
          <p:cNvPicPr/>
          <p:nvPr/>
        </p:nvPicPr>
        <p:blipFill>
          <a:blip r:embed="rId1"/>
          <a:stretch/>
        </p:blipFill>
        <p:spPr>
          <a:xfrm>
            <a:off x="450720" y="122400"/>
            <a:ext cx="8242560" cy="1341360"/>
          </a:xfrm>
          <a:prstGeom prst="rect">
            <a:avLst/>
          </a:prstGeom>
          <a:ln w="0">
            <a:noFill/>
          </a:ln>
        </p:spPr>
      </p:pic>
      <p:sp>
        <p:nvSpPr>
          <p:cNvPr id="400" name="PlaceHolder 1"/>
          <p:cNvSpPr>
            <a:spLocks noGrp="1"/>
          </p:cNvSpPr>
          <p:nvPr>
            <p:ph/>
          </p:nvPr>
        </p:nvSpPr>
        <p:spPr>
          <a:xfrm>
            <a:off x="456840" y="5409720"/>
            <a:ext cx="404028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ush Factors</a:t>
            </a:r>
            <a:endParaRPr b="0" lang="en-US" sz="2400" spc="-1" strike="noStrike">
              <a:solidFill>
                <a:srgbClr val="000000"/>
              </a:solidFill>
              <a:latin typeface="Lucida Sans Unicode"/>
            </a:endParaRPr>
          </a:p>
        </p:txBody>
      </p:sp>
      <p:sp>
        <p:nvSpPr>
          <p:cNvPr id="401" name="PlaceHolder 2"/>
          <p:cNvSpPr>
            <a:spLocks noGrp="1"/>
          </p:cNvSpPr>
          <p:nvPr>
            <p:ph/>
          </p:nvPr>
        </p:nvSpPr>
        <p:spPr>
          <a:xfrm>
            <a:off x="4644720" y="5409720"/>
            <a:ext cx="4041720" cy="762120"/>
          </a:xfrm>
          <a:prstGeom prst="rect">
            <a:avLst/>
          </a:prstGeom>
          <a:solidFill>
            <a:srgbClr val="2da2bf"/>
          </a:solidFill>
          <a:ln w="9720">
            <a:solidFill>
              <a:srgbClr val="2da2bf"/>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Pull Factors</a:t>
            </a:r>
            <a:endParaRPr b="0" lang="en-US" sz="2400" spc="-1" strike="noStrike">
              <a:solidFill>
                <a:srgbClr val="000000"/>
              </a:solidFill>
              <a:latin typeface="Lucida Sans Unicode"/>
            </a:endParaRPr>
          </a:p>
        </p:txBody>
      </p:sp>
      <p:sp>
        <p:nvSpPr>
          <p:cNvPr id="402" name=""/>
          <p:cNvSpPr txBox="1"/>
          <p:nvPr/>
        </p:nvSpPr>
        <p:spPr>
          <a:xfrm>
            <a:off x="456840" y="1444320"/>
            <a:ext cx="4040280" cy="39416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
          <p:cNvSpPr txBox="1"/>
          <p:nvPr/>
        </p:nvSpPr>
        <p:spPr>
          <a:xfrm>
            <a:off x="4644720" y="1444320"/>
            <a:ext cx="4041720" cy="3941640"/>
          </a:xfrm>
          <a:prstGeom prst="rect">
            <a:avLst/>
          </a:prstGeom>
          <a:noFill/>
          <a:ln w="0">
            <a:noFill/>
          </a:ln>
        </p:spPr>
        <p:txBody>
          <a:bodyPr lIns="90000" rIns="90000" tIns="46800" bIns="46800" anchor="t">
            <a:normAutofit/>
          </a:bodyPr>
          <a:p>
            <a:pPr marL="365040" indent="-255600">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533520" y="1599840"/>
            <a:ext cx="8229600" cy="16002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 your notebooks write a list of reasons for why people and animals to migra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ll share our answers in a little whil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75" name="Title 1" descr=""/>
          <p:cNvPicPr/>
          <p:nvPr/>
        </p:nvPicPr>
        <p:blipFill>
          <a:blip r:embed="rId1"/>
          <a:stretch/>
        </p:blipFill>
        <p:spPr>
          <a:xfrm>
            <a:off x="450720" y="122400"/>
            <a:ext cx="8242560" cy="1341360"/>
          </a:xfrm>
          <a:prstGeom prst="rect">
            <a:avLst/>
          </a:prstGeom>
          <a:ln w="0">
            <a:noFill/>
          </a:ln>
        </p:spPr>
      </p:pic>
      <p:pic>
        <p:nvPicPr>
          <p:cNvPr id="376" name="Picture 3" descr=""/>
          <p:cNvPicPr/>
          <p:nvPr/>
        </p:nvPicPr>
        <p:blipFill>
          <a:blip r:embed="rId2"/>
          <a:stretch/>
        </p:blipFill>
        <p:spPr>
          <a:xfrm>
            <a:off x="685800" y="3352680"/>
            <a:ext cx="7543800" cy="33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719280" y="1054080"/>
            <a:ext cx="8259480" cy="1841400"/>
          </a:xfrm>
          <a:prstGeom prst="rect">
            <a:avLst/>
          </a:prstGeom>
          <a:ln w="0">
            <a:noFill/>
          </a:ln>
        </p:spPr>
      </p:pic>
      <p:sp>
        <p:nvSpPr>
          <p:cNvPr id="378" name="PlaceHolder 1"/>
          <p:cNvSpPr>
            <a:spLocks noGrp="1"/>
          </p:cNvSpPr>
          <p:nvPr>
            <p:ph/>
          </p:nvPr>
        </p:nvSpPr>
        <p:spPr>
          <a:xfrm>
            <a:off x="3885840" y="2931840"/>
            <a:ext cx="4608360" cy="3392280"/>
          </a:xfrm>
          <a:prstGeom prst="rect">
            <a:avLst/>
          </a:prstGeom>
          <a:noFill/>
          <a:ln w="0">
            <a:noFill/>
          </a:ln>
        </p:spPr>
        <p:txBody>
          <a:bodyPr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Lucida Sans Unicode"/>
              </a:rPr>
              <a:t>Human Migration</a:t>
            </a:r>
            <a:r>
              <a:rPr b="0" lang="en-US" sz="2300" spc="-1" strike="noStrike">
                <a:solidFill>
                  <a:srgbClr val="ffffff"/>
                </a:solidFill>
                <a:latin typeface="Lucida Sans Unicode"/>
              </a:rPr>
              <a:t>: is the movement of people from one place in the world to another for the purpose of taking up permanent or semi-permanent residence, usually across a political boundary. </a:t>
            </a:r>
            <a:endParaRPr b="0" lang="en-US" sz="2300" spc="-1" strike="noStrike">
              <a:solidFill>
                <a:srgbClr val="ffffff"/>
              </a:solidFill>
              <a:latin typeface="Lucida Sans Unicod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Lucida Sans Unicode"/>
            </a:endParaRPr>
          </a:p>
        </p:txBody>
      </p:sp>
      <p:pic>
        <p:nvPicPr>
          <p:cNvPr id="379" name="Picture 3" descr="C:\Users\The Berndt Family\AppData\Local\Microsoft\Windows\Temporary Internet Files\Content.IE5\YZX2CFPX\MCj01498820000[1].wmf"/>
          <p:cNvPicPr/>
          <p:nvPr/>
        </p:nvPicPr>
        <p:blipFill>
          <a:blip r:embed="rId2"/>
          <a:stretch/>
        </p:blipFill>
        <p:spPr>
          <a:xfrm>
            <a:off x="304920" y="3657600"/>
            <a:ext cx="3047760" cy="2171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01760" y="268200"/>
            <a:ext cx="8224560" cy="2865600"/>
          </a:xfrm>
          <a:prstGeom prst="rect">
            <a:avLst/>
          </a:prstGeom>
          <a:ln w="0">
            <a:noFill/>
          </a:ln>
        </p:spPr>
      </p:pic>
      <p:sp>
        <p:nvSpPr>
          <p:cNvPr id="381" name="PlaceHolder 1"/>
          <p:cNvSpPr>
            <a:spLocks noGrp="1"/>
          </p:cNvSpPr>
          <p:nvPr>
            <p:ph type="subTitle"/>
          </p:nvPr>
        </p:nvSpPr>
        <p:spPr>
          <a:xfrm>
            <a:off x="685800" y="3048120"/>
            <a:ext cx="7772400" cy="3504960"/>
          </a:xfrm>
          <a:prstGeom prst="rect">
            <a:avLst/>
          </a:prstGeom>
          <a:noFill/>
          <a:ln w="0">
            <a:noFill/>
          </a:ln>
        </p:spPr>
        <p:txBody>
          <a:bodyPr lIns="45720" rIns="4572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a:t>
            </a:r>
            <a:r>
              <a:rPr b="0" lang="en-US" sz="2700" spc="-1" strike="noStrike">
                <a:solidFill>
                  <a:srgbClr val="000000"/>
                </a:solidFill>
                <a:latin typeface="Lucida Sans Unicode"/>
              </a:rPr>
              <a:t>Migration occurs at a variety of scales</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continental (between continents)</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racontinental (between countries on a given continent)</a:t>
            </a: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regional (within countries)</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828800"/>
            <a:ext cx="8229600" cy="41781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Internal Migration:  Moving to a new home within the same plac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External Migration:  Moving to a new home in a different pla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450720" y="268200"/>
            <a:ext cx="8242560" cy="1158840"/>
          </a:xfrm>
          <a:prstGeom prst="rect">
            <a:avLst/>
          </a:prstGeom>
          <a:ln w="0">
            <a:noFill/>
          </a:ln>
        </p:spPr>
      </p:pic>
      <p:sp>
        <p:nvSpPr>
          <p:cNvPr id="385" name=""/>
          <p:cNvSpPr txBox="1"/>
          <p:nvPr/>
        </p:nvSpPr>
        <p:spPr>
          <a:xfrm>
            <a:off x="457200" y="1523880"/>
            <a:ext cx="8229600" cy="37972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Emigration:  Leaving one country to move to anoth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Immigration:  Moving into a new countr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Picture 2" descr=""/>
          <p:cNvPicPr/>
          <p:nvPr/>
        </p:nvPicPr>
        <p:blipFill>
          <a:blip r:embed="rId2"/>
          <a:stretch/>
        </p:blipFill>
        <p:spPr>
          <a:xfrm>
            <a:off x="2514600" y="3962520"/>
            <a:ext cx="3809880" cy="267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5.  Involuntary Migration:  When a government forces a large group of people out of a region usually based on ethnicity or relig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6.  Reluctant Migration:  Individuals are not forced out of their country, but leave because of unfavorable situations such as warfare, political problems, or religious persec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2209680"/>
            <a:ext cx="8229600" cy="19814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7.  Seasonal Migration:  The process of moving for a period of time in response to labor or climate condi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Title 2" descr=""/>
          <p:cNvPicPr/>
          <p:nvPr/>
        </p:nvPicPr>
        <p:blipFill>
          <a:blip r:embed="rId1"/>
          <a:stretch/>
        </p:blipFill>
        <p:spPr>
          <a:xfrm>
            <a:off x="450720" y="268200"/>
            <a:ext cx="8242560" cy="1158840"/>
          </a:xfrm>
          <a:prstGeom prst="rect">
            <a:avLst/>
          </a:prstGeom>
          <a:ln w="0">
            <a:noFill/>
          </a:ln>
        </p:spPr>
      </p:pic>
      <p:pic>
        <p:nvPicPr>
          <p:cNvPr id="391" name="Picture 3" descr=""/>
          <p:cNvPicPr/>
          <p:nvPr/>
        </p:nvPicPr>
        <p:blipFill>
          <a:blip r:embed="rId2"/>
          <a:stretch/>
        </p:blipFill>
        <p:spPr>
          <a:xfrm>
            <a:off x="5638680" y="3429000"/>
            <a:ext cx="3048120" cy="2990880"/>
          </a:xfrm>
          <a:prstGeom prst="rect">
            <a:avLst/>
          </a:prstGeom>
          <a:ln w="0">
            <a:noFill/>
          </a:ln>
        </p:spPr>
      </p:pic>
      <p:sp>
        <p:nvSpPr>
          <p:cNvPr id="392" name="Rectangle 5"/>
          <p:cNvSpPr/>
          <p:nvPr/>
        </p:nvSpPr>
        <p:spPr>
          <a:xfrm>
            <a:off x="2057400" y="5562720"/>
            <a:ext cx="3657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Lucida Sans Unicode"/>
                <a:hlinkClick r:id="rId3"/>
              </a:rPr>
              <a:t>Migration Commercial</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3" descr=""/>
          <p:cNvPicPr/>
          <p:nvPr/>
        </p:nvPicPr>
        <p:blipFill>
          <a:blip r:embed="rId1"/>
          <a:stretch/>
        </p:blipFill>
        <p:spPr>
          <a:xfrm>
            <a:off x="682560" y="530280"/>
            <a:ext cx="7785000" cy="1311120"/>
          </a:xfrm>
          <a:prstGeom prst="rect">
            <a:avLst/>
          </a:prstGeom>
          <a:ln w="0">
            <a:noFill/>
          </a:ln>
        </p:spPr>
      </p:pic>
      <p:sp>
        <p:nvSpPr>
          <p:cNvPr id="394" name="PlaceHolder 1"/>
          <p:cNvSpPr>
            <a:spLocks noGrp="1"/>
          </p:cNvSpPr>
          <p:nvPr>
            <p:ph type="subTitle"/>
          </p:nvPr>
        </p:nvSpPr>
        <p:spPr>
          <a:xfrm>
            <a:off x="685800" y="2209680"/>
            <a:ext cx="7772400" cy="260208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 </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46"/>
                </a:solidFill>
                <a:latin typeface="Lucida Sans Unicode"/>
              </a:rPr>
              <a:t>Emigrant: </a:t>
            </a:r>
            <a:r>
              <a:rPr b="0" lang="en-US" sz="2500" spc="-1" strike="noStrike">
                <a:solidFill>
                  <a:srgbClr val="464646"/>
                </a:solidFill>
                <a:latin typeface="Lucida Sans Unicode"/>
              </a:rPr>
              <a:t>A person who is leaving a country to reside in another.</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 </a:t>
            </a:r>
            <a:endParaRPr b="0" lang="en-US" sz="25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64646"/>
                </a:solidFill>
                <a:latin typeface="Lucida Sans Unicode"/>
              </a:rPr>
              <a:t>Immigrant: </a:t>
            </a:r>
            <a:r>
              <a:rPr b="0" lang="en-US" sz="2500" spc="-1" strike="noStrike">
                <a:solidFill>
                  <a:srgbClr val="464646"/>
                </a:solidFill>
                <a:latin typeface="Lucida Sans Unicode"/>
              </a:rPr>
              <a:t>A person who is entering a country from another to take up new residence. </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00:24:31Z</dcterms:created>
  <dc:creator>The Berndt Family</dc:creator>
  <dc:description/>
  <dc:language>en-US</dc:language>
  <cp:lastModifiedBy>hberndt</cp:lastModifiedBy>
  <dcterms:modified xsi:type="dcterms:W3CDTF">2008-12-12T17:34:40Z</dcterms:modified>
  <cp:revision>14</cp:revision>
  <dc:subject/>
  <dc:title>Slide 1</dc:title>
</cp:coreProperties>
</file>